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A449E-1E83-4AF1-B6FC-998253E9A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F28-6860-40F3-96E4-817A93F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46A25-0AED-46ED-A9B0-623CDBB3A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B32943-2AC3-4FAE-8E55-C96D32FF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09E178-DC06-49C9-9DCB-1C538A7DF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EAC834-20D0-473D-9A14-C3B29985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2B90FD-B087-49C9-9319-977C1B01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E5F1F7-42C0-465E-B640-2101A9ADE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E0408A-FC3A-4DA8-A95D-61DAD5486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F4CC64-1601-44EA-AFB6-6F59EED42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7EBB73-95B6-463A-AD11-107E95B7F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E7FDA7-977E-479D-9C2F-C67353E23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62952-4ADE-457D-A73E-FFB5992133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51AF6D-2ED7-4AB0-9CDB-A55C8275C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34474-394A-4B7A-B4D3-CA436B84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F35EDD-7DD0-4F9A-A207-5C96356AB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B93927-76F5-4C58-A6EE-1F975EF3E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DB5AAC-C6A5-4CB7-BDBD-C59A2A4A8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EBD486-85C8-48AF-AAAC-A481CDE7D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376AA9-0B77-4F25-862B-E440A4151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49244B-BC60-4586-BA5A-1CE6B93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96799-E84C-48CD-AC13-93193CA01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4E851D-D28D-4B1E-B92A-1C3A8896F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F124-C80A-4C4D-A81A-7C79B11F9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2EF7C6-7A38-4111-BDE9-F212DB01A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A28B82-4EE4-4242-96E7-30540C902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6ACC05-D156-460B-BC29-3085D86D2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54C8E-3284-460A-B1DD-FC7A61B05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5FAE81-0A18-49D8-9FE5-1FC178A88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4BF12A-4EBA-4F7B-BF55-9619FCC61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22DE43-B189-41EE-AEA0-EA5B7BA16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A02613-9369-4965-98F5-F6097050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CB956-561D-46D2-A09F-9D4E68B7B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419EA5A-B541-4FAD-B508-8166404B3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562FA-F1ED-4A0A-B779-ABF83074A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F7FE93-34FB-48A0-BD0D-7C99E924A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AF90CC-0EE0-412E-9542-727294EE0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5F7A09-5493-4C1C-A762-D567F7CFF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5FF74-31A7-44DC-94A1-9CCA96EBE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2E9B59-1C49-4A1B-802C-CA4502DB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AAC29-B500-409D-BC87-C053D08B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0CF124-837B-4DFB-A19D-047CF7025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3DDCCD-942D-4ADE-9B27-87D879CF1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E2B1F-4E49-49BD-B617-6CE37D77A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FF8C0A-B18D-4D1C-991B-B2743EF39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FC5C8-BF66-4185-B0E8-6E1D8124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CBD0D7-E43C-423F-A9AF-E803FBB29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88E988-41FE-4E7D-9375-6F8C34D78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0A313D-3946-4155-998A-CD873DC5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67087E-179C-4226-ADF6-BADCCFC17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5926FD-FF80-41F5-B1AD-6C8570960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C8CCBF-6C8F-4D3E-AF9F-CA99ECC9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11E4F0-360A-4CCA-8927-7A47C5D1C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118F8C-5D7E-463D-B461-34C0AF8A2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E3B36E-442D-422E-8CC3-FC3A027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57E801-F4AD-472E-9E65-3F786562D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C2E9-10F5-4812-B7BC-AB2B5E805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A9E474-7895-4144-B4FE-C497AD12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632189-2BBA-445B-8DFF-0B90DF72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A154FE-E6A4-4DF7-AD04-15EF9BBF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8F3262-2B15-4C98-956A-55F0FBD8F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33D31E-23F0-4587-B20E-E20086D9C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D078CA-CED8-45B1-8D68-3737DE4AE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F8331E-3F82-46A6-8EE8-C63D5A5DFE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AFAA1-D549-421C-922B-582B0E140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7006A7-9818-48DB-B796-1EB98EC00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0D102A5-3158-42CB-904D-B37C574F6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C06EE-F473-4722-85B1-68297247C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608381-1773-4FA5-BCB6-D68D07A4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E985AC3-E3A2-45FD-856E-A5F1CC583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DAAFDC-555F-49A5-A117-B2ACCF28B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5A54D4-2CDE-4F54-AF96-3205A4583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29E2EA-3BDE-47CF-9623-209E39602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D8469C-46C1-4D7E-ABC2-852CB020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3C5AF2-ECD2-45D2-8A33-AB37038BF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578591D-FBC9-4643-A11E-03F6F0D68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169E8C-E248-4861-A270-843E0DAEE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228953-5276-4355-8DE8-5776869BA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3D187-09DF-4319-BCF3-414572AB6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04224F2-A9EF-49EF-87F1-62464FB1C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25A721-D795-47E5-AC2C-3A74D852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0EB796-4F84-4B4B-B436-2453906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980DC-685E-4A64-9F5D-5DBDD0931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033D15-52E3-4401-9A19-AE137AFAE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E63E84B-ECAE-4262-B6AC-60EDCE8BD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010249-374E-4A96-962D-48FAE2229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668B86-4376-44F0-97ED-02611BA6B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F78AB0-2E80-461C-A26D-2F893851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73EDE7A-29E3-4A2A-AEDD-2CBFD14E2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E77F-C849-4501-BAF5-49B384857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50F2F3-C117-4194-BB87-8E0B15BB8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35DBAC-C0F4-46C3-AD9C-5938EBDD8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21E1F2E-1895-4691-9FCA-869DCC592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7EF668C-1A87-43B0-9787-20C246982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6FED17-EAF0-4940-A9CC-609C004D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58CB34-1797-489D-A73E-3340D1A2B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5226B0-BBC7-4196-A9E2-D6FD391F5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FDB74D-C272-45C7-A388-F9FD3694A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A0901C8-301A-4C79-B1AC-5CE5CFE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0867B2-718E-42D3-AD59-E32E2FCD6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30814-7707-4FAD-B343-C04B00A34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E52D86-91CE-4B45-959A-551BF2685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BCFA1C-6A53-4B1D-BC8E-C2791576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778A53-DF66-4BA5-A084-218B4F4F9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D5C376-152A-4C2F-8712-A85D807E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55D2AA-F011-424F-B5C5-2D2C2CCA0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0D2C8C-FD77-4BCF-98D8-6CF7B03AF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C6A5744-663C-4FFB-955B-92277EA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CFAC171-F779-4342-A786-0B716219D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EE254ED-65C4-4724-9926-E971987B0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A472E7-3296-403F-9862-8E6EF78C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B43B-61C9-4338-AA9C-13211613E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79912-6668-48B4-89C5-900C6FE1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799DBB-00EF-46CB-8DAF-06999A463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6FF188-DE5E-4782-8B3E-6497B7585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1E6432-3A98-4EB7-82B4-28B412574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2344E-5679-45D6-9BC3-B99F87770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1B5A2C-0D0B-4835-817A-D1A4799AD1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269A95-CED1-476A-9170-B4CA1990C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E39CD1-DFC6-47E6-929B-94266B196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5E275F5-785A-4CD4-83A4-4A03AE8AA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A33788-6C23-4621-B1BD-1D9E6D60B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E015BD-1F3E-4B6B-8B03-45E90932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347E-C731-47B0-B235-32E6B6165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F1A949-6435-4EB5-BAF2-C7EB17E62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DB244F-30E8-4E94-B595-912E02EE8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68928F-4795-4962-8C9A-8B97DF89B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F76D77-9967-49EC-8E4E-EAB49AC4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D5600E-8A75-4210-9814-D822A1926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EDC78-39E8-4C97-A748-63EF60DF0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54E9078-894A-46AF-B4B3-52945C89F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F4598A-1700-4372-A365-22DF0BA45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26C7F84-3B9B-489D-ABBF-3B7CAD87A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BD92B5-DED9-4911-8EAB-46D7EBBAE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FE3F-F7B4-4EF1-A73A-EB410AD71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BCD3D81-5F99-44D5-A35F-CA0A54710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4C5CB9-F8F2-46DC-B19A-DC340635B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F54EF3-5D2C-44A1-8918-AF5B661C3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88E965-0046-4388-A7BA-A22DCE944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562F96-6DA0-48C3-AEF9-2F2753914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4CEBA3-AC2A-4753-9329-71DD1FF2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768610-F2BE-44B6-B4F6-53CD17B7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D820E9-13A2-4972-80AE-360AF67C1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2DF88C-4DCE-4AB8-8A9F-039BE8047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D054A2-03C1-45B7-84AA-ED41D057C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B880F-BF34-42B4-AE3E-83A2A7518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58F2E0-5C2C-43DB-9B4C-E4ADF7C8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B4B92DB-AE3B-43D7-8E03-AD2650FC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6A0D956-F2F8-4FEA-A0A3-7D890F9CA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CBF6CF-3AE5-4C3F-A2A7-C1DF5C3AB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4639F8-4D48-4DBA-A9A0-BEB159E0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44DF0D2-A4B0-4FB3-867B-503675BEA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CE19C9-86F6-446D-908D-F38D8A224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EC88C84-3C23-40A1-B363-FF449CE7B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FB3E2C5-63F5-4D2A-A059-DD883FC9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8F788B0-1EBF-423D-AB2F-07523FB22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31208-1681-4C2B-9F2E-C381AB06D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DE98284-5603-45EB-B9FB-CD9028710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B104EE3-B82B-4D3D-A60C-4E0DC6F09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790EAB-92B1-4B6A-B8EB-BCA61E9AA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E22E592-8EC3-4BE3-B7B0-C752A62E0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87804C1-5499-48C6-B6F5-FCD84A50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D2FBE5-136A-4B0C-9B95-449B4631C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D894EAE-A643-4051-9269-9787DA40C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578AC18-8BED-405F-AE69-827D6A1C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EAD9527-148C-4D8F-87C7-783A73C13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CC2FC9-3506-4FDC-8B38-4CF0521B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83A8B-356E-4E9F-A116-8ACC6ECBC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970AC1-2068-454A-B2D9-6D9B2CB4B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E820DA-B190-4062-85B3-D448C7F8BE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88E9B3-6244-4E59-955A-C3E684D33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285BA-FAEC-4E12-B8C4-C9AAEB2A3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FF1DF0-F329-4A35-98D9-EF90FA0CB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AD4015-F0C5-48F6-B9A9-45229CA7E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701A7-F5D9-48D4-8FAC-8F5E7838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CE4B-D4C5-45CF-9521-D55613207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D4CA7-DC28-4361-92E8-D4008ACC1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1A319-6DB8-45C3-A3AC-A10555E5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F72991-C157-4D2D-8D78-4B6ED6E7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1052B2-AEC8-4F16-828A-D358CD11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DCAADA-7BB2-4502-9328-0130E110E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72C373-7A33-4FF3-852E-F43F08E55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35C9C-7B9B-4563-8358-3C0D2965F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848F2-5F73-43DF-BCE7-354ADDFC3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BF8450-7BF7-41A3-9094-001D2997E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B8732E-EFA4-4BC2-B51D-E62460EB7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773E7-F8C5-4769-9C37-047BCA24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6122B-ED66-4305-859D-52F10D760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9FAEAE-D6DB-4969-88AE-A74B8DE61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16D4D-DFE9-4E61-84DD-8BCB85BDB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F7CF58-0ABA-4311-8335-20EC66182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B2C34-A0EC-4D7C-82C9-B554FBC66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092E5-68C2-4D78-B398-FCA90DF07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BA67EE-76BC-4EF0-BB53-3ECE5F50A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02E2B9-B059-49CE-9CD8-B22BC73B7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8A855-CEA9-4A84-81E6-BA34C4057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34ACD9-028D-4083-8001-E298B3D185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4671-A8FB-49F3-A3EC-B704FDCC0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F12193-4B79-4FF3-AD68-EDBFC9FB2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6E19-56EF-4A74-A3A6-987B6F476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43FA8A-FF8A-4657-BE43-638A00576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215242-3A19-418D-BB9A-61DA7AD7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36ED12-3F67-4229-B39E-9F18CD7C0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146EE-6986-43F3-8C3B-C95C7C8AA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384697-AEBC-46E1-B96F-935F57B87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4CB1E-3A7B-4102-9AFD-41BC485F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8D8F0-FDA7-4F09-888D-D7DD5192F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8E86F-2180-4C6F-A3AE-5ECC12D979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97A94-19EA-4F2D-9E4D-A5C9EA4B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B7AE1-197A-44C6-BAF4-C873CF7B2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26C24F-42E1-47C6-B5C0-4B49C32AE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C42E0B-9FF1-469B-BE8A-F0291395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94AE28-30E2-41A3-9F31-5783E0DF1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07A3B5-2BC7-44A7-BB2B-1171C3BD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78765A-2C55-4C6F-8FB1-EC2F4E0D7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E5E79F-D22D-4030-9959-00CF14A62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F1E0AF-060D-4A0D-A736-0EA07D1A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94BB03-8AC0-41A5-8163-54E0B378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20B5B0-FACD-4FB0-A304-EF2BEBDC1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1E83-0B51-4D5A-A13F-DEB74D7D9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CB593-E32F-4C8E-8523-A71C1DBC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0FA5B-4761-4A7A-B29F-4C7C800B5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1F5716-F02D-40BC-973D-9E7A6DE5C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3637D0-5566-47A5-974C-9AD3A36F8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FCE0B7-1B41-4ED5-9280-826B02230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ECBBCC-FB84-4CBC-B62F-B7A02E2E2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07C5A5-4642-4F0D-9538-CDA9075EB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C36D7-D227-4D48-B0E8-C8268E746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6E573F-8159-46AE-B257-A6FD9BC58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3B8F1F-2329-4F6D-B103-667FC8A71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AD39-BEAC-42A2-AE5F-5839280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EFE8E3-8FB4-4B23-B04C-9FDF334FA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E693C7-F929-4D0A-BA04-E37543917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B9AC3-79D9-4AF9-A383-C63BE2DA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CD2DF4-D98A-4D8D-B70F-5914A3493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914E19-8B6F-4F27-A0E7-059845113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5BA48-4FD7-4E0C-BAE6-6D0FBB03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4C634-771D-4498-94AC-DBB100BC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B57E1C-1EF1-45A4-8119-C971AFB7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B50D33-C40F-40F6-A966-9F1324A6B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18ED5A-15A3-4A8F-A7D3-DE4061F63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E4D1-57A2-4BD5-B2C5-7ACA2648E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ED8FE9-7E14-4506-BF52-40CE229DE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2DFC4C-5EE3-492E-8EE1-BFDEBD83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812E1A8-EE65-4A02-B611-1F587FE7A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6A8D02-15DB-44A8-8D76-45F269035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D9C28-2B80-495A-805B-9BD43D63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0E30B2-73BA-4177-8623-EEC50FB6B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00A5C6-1643-4F31-8A39-A7E303712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AD1D6F-8DC3-4CCB-B7C6-6AA7E6489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C8EA1E-87D9-451B-90AF-EA8AA27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3589DC-727C-4D04-ABFC-85859A697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8751-C7E4-4520-A844-69AF7A626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95355-3A8C-43B6-B461-C7959F560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BA13-64F1-495B-A357-6C8E1011C7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8C5B7-0F06-44D3-A774-1A7CB505DB1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58264-B5A0-4149-92F2-48495AC1BA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8AB21-756F-4E51-A770-35B9933194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1E4A3-30A1-400B-87C8-C23191A9F9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D2E63-9DC4-4153-A402-8C2C8E648C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6D904-C715-4252-B008-8D44F17E61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776DC-0588-4499-8A9A-24AB19A846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47C55-DEA6-4185-9069-A033EBD81D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2FAF4-E5B3-48D9-999B-A75C233620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316BC-CC48-438E-A4FC-7D414490A4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791F-C38E-40C7-8522-B0FF161696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8EA1E-40E8-45F5-BCED-C1A53629372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217CF-AFB3-43B3-96E8-B22E93FF4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685F-DE5A-4122-90DA-7E775C3E49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0C34D-2F8F-431E-92A2-F8D22F5E4EE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A00DE-702B-4494-BDE4-A2D8128925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DAAFA-2358-4A96-90AE-8BA19BC42DD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18074-8781-4E7D-A340-B6B6A4F251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30C3E-D871-41CF-97F6-7A3D96AA84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6DBC5-A8E4-4C4D-A085-9B2EEDD047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C69D-071B-4C93-81A3-E8C030A90C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E4804-705F-4A43-8BBC-9DF165ACF50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1E985-3B1D-44CD-BBBB-32EDECBC13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61E4-9894-4088-BE0F-6935BFC947F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D8DCB-7BE4-4979-96DA-EB9D55F48A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4D4D-61CE-4912-8B3D-A3DF84684C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0A57-9439-4224-9919-8ECD6F96F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CD6A-6E9C-4095-8B93-B548DCAF37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73EC-6D53-408F-AF0D-031FEADFCC4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97FC9-C270-4B0D-A5E3-6F83101F2C0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6E80B-F13E-4610-9CA6-A45B281FA4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5D244-6A81-4EBE-B915-36EA4174E5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EA79-E84F-4AC6-A8D4-B7EF4B628B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A4C15-7D1B-4F25-B847-3E281508CD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AC79-0134-472F-8D62-69DE96E746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EC6DE-9AF9-45A9-ADDC-B310D7DF13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AC08D-B7A2-43A2-98C6-D3757E1FD93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90600" y="3166920"/>
            <a:ext cx="476280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1" descr=""/>
          <p:cNvPicPr/>
          <p:nvPr/>
        </p:nvPicPr>
        <p:blipFill>
          <a:blip r:embed="rId1"/>
          <a:stretch/>
        </p:blipFill>
        <p:spPr>
          <a:xfrm>
            <a:off x="500040" y="919080"/>
            <a:ext cx="814392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09680" y="1004760"/>
            <a:ext cx="8324640" cy="48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80960" y="866880"/>
            <a:ext cx="8182080" cy="5124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2"/>
          <p:cNvSpPr/>
          <p:nvPr/>
        </p:nvSpPr>
        <p:spPr>
          <a:xfrm>
            <a:off x="928800" y="5214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3"/>
          <p:cNvSpPr/>
          <p:nvPr/>
        </p:nvSpPr>
        <p:spPr>
          <a:xfrm>
            <a:off x="928800" y="5715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1" descr=""/>
          <p:cNvPicPr/>
          <p:nvPr/>
        </p:nvPicPr>
        <p:blipFill>
          <a:blip r:embed="rId1"/>
          <a:stretch/>
        </p:blipFill>
        <p:spPr>
          <a:xfrm>
            <a:off x="500040" y="857160"/>
            <a:ext cx="8210520" cy="559116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1000080" y="85716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164304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4"/>
          <p:cNvSpPr/>
          <p:nvPr/>
        </p:nvSpPr>
        <p:spPr>
          <a:xfrm>
            <a:off x="928800" y="20718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5"/>
          <p:cNvSpPr/>
          <p:nvPr/>
        </p:nvSpPr>
        <p:spPr>
          <a:xfrm>
            <a:off x="1000080" y="250020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6"/>
          <p:cNvSpPr/>
          <p:nvPr/>
        </p:nvSpPr>
        <p:spPr>
          <a:xfrm>
            <a:off x="928800" y="32860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7"/>
          <p:cNvSpPr/>
          <p:nvPr/>
        </p:nvSpPr>
        <p:spPr>
          <a:xfrm>
            <a:off x="928800" y="40719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8"/>
          <p:cNvSpPr/>
          <p:nvPr/>
        </p:nvSpPr>
        <p:spPr>
          <a:xfrm>
            <a:off x="928800" y="4929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9"/>
          <p:cNvSpPr/>
          <p:nvPr/>
        </p:nvSpPr>
        <p:spPr>
          <a:xfrm>
            <a:off x="1000080" y="56437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6" name="Picture 1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820116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42800" y="766800"/>
            <a:ext cx="8258400" cy="532440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928800" y="457200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1" descr=""/>
          <p:cNvPicPr/>
          <p:nvPr/>
        </p:nvPicPr>
        <p:blipFill>
          <a:blip r:embed="rId1"/>
          <a:stretch/>
        </p:blipFill>
        <p:spPr>
          <a:xfrm>
            <a:off x="504720" y="1190520"/>
            <a:ext cx="8134560" cy="447696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1000080" y="1214280"/>
            <a:ext cx="42876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1000080" y="24289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4"/>
          <p:cNvSpPr/>
          <p:nvPr/>
        </p:nvSpPr>
        <p:spPr>
          <a:xfrm>
            <a:off x="928800" y="3643200"/>
            <a:ext cx="42840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3" name="Picture 1" descr=""/>
          <p:cNvPicPr/>
          <p:nvPr/>
        </p:nvPicPr>
        <p:blipFill>
          <a:blip r:embed="rId1"/>
          <a:stretch/>
        </p:blipFill>
        <p:spPr>
          <a:xfrm>
            <a:off x="514440" y="1209600"/>
            <a:ext cx="8115120" cy="4438800"/>
          </a:xfrm>
          <a:prstGeom prst="rect">
            <a:avLst/>
          </a:prstGeom>
          <a:ln w="0">
            <a:noFill/>
          </a:ln>
        </p:spPr>
      </p:pic>
      <p:sp>
        <p:nvSpPr>
          <p:cNvPr id="1044" name="矩形 2"/>
          <p:cNvSpPr/>
          <p:nvPr/>
        </p:nvSpPr>
        <p:spPr>
          <a:xfrm>
            <a:off x="1928880" y="242892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3"/>
          <p:cNvSpPr/>
          <p:nvPr/>
        </p:nvSpPr>
        <p:spPr>
          <a:xfrm>
            <a:off x="1117440" y="524988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61880" y="2014560"/>
            <a:ext cx="8220240" cy="282888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5214960" y="27860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6143760" y="35719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4572000" y="435780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29:3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